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561-851C-4922-90CC-F4FDFB77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ECF-1CF5-4B51-9BA1-0D478970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43D-63FF-4AB9-863F-97456285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5CA-15F1-4E65-B1DA-17B71453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57A-328E-4EBF-BB31-FA2AAE9C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6D9-287C-4AA9-A9BB-B4FBA4F6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E05-8930-486C-B761-604F6539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6DA-DAC3-4576-95A1-25C614D9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361-41C6-4EB0-93DF-41A4AB55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557-8C5B-4FFE-9A48-95A7586E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98C-CA9C-4427-A153-17BA4B82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D02-42A3-490A-987B-D9A94484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EE59-9D0A-4FAF-BD29-9911039AD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nosaur was our new student to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bout his adventures in school as a new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include at least 5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4740" r="0" b="0"/>
          <a:stretch/>
        </p:blipFill>
        <p:spPr>
          <a:xfrm>
            <a:off x="4876920" y="1676520"/>
            <a:ext cx="36986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08:37Z</dcterms:created>
  <dc:creator>fcps</dc:creator>
  <dc:description/>
  <dc:language>en-US</dc:language>
  <cp:lastModifiedBy>fcps</cp:lastModifiedBy>
  <dcterms:modified xsi:type="dcterms:W3CDTF">2007-09-05T14:08:52Z</dcterms:modified>
  <cp:revision>1</cp:revision>
  <dc:subject/>
  <dc:title>Writing Prompt</dc:title>
</cp:coreProperties>
</file>