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320-73FF-4408-94AD-E0E01A2A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D36-70BF-4FC8-A2B7-F6ADA49D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06F-29DE-48CB-863A-522D6792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081-B67E-4D1B-9F5A-5035709F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E73-397D-4A6D-9CC6-57A2DAE2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425-40E2-447A-A72C-BB225A49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052-CF3C-40F4-8809-81AD64EB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3CD-B561-41DB-96BD-F614B4D0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547B-F80C-4E22-996A-1FDE5574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411-E6B6-4BA5-835B-C75DC9C5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ABC-3D2E-4292-BBD5-FC3EBB5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16A-1999-4354-991A-A7225159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0968-8B91-41EC-BFDE-72E6AB2AD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nosaur was our new student to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bout his adventures in school as a new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include at least 5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4740" r="0" b="0"/>
          <a:stretch/>
        </p:blipFill>
        <p:spPr>
          <a:xfrm>
            <a:off x="4876920" y="1676520"/>
            <a:ext cx="36986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08:37Z</dcterms:created>
  <dc:creator>fcps</dc:creator>
  <dc:description/>
  <dc:language>en-US</dc:language>
  <cp:lastModifiedBy>fcps</cp:lastModifiedBy>
  <dcterms:modified xsi:type="dcterms:W3CDTF">2007-09-05T14:08:52Z</dcterms:modified>
  <cp:revision>1</cp:revision>
  <dc:subject/>
  <dc:title>Writing Prompt</dc:title>
</cp:coreProperties>
</file>