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ADD-8BA6-42D5-BD0E-B5D49F7E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AAA-0C69-4FF3-BDCF-0963EF82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40D-09D8-4B47-BE5D-D0293C67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30B-4226-4FE2-A472-E4DD87F1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8C7-4EDC-4EFF-A229-77EE3667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B02-D088-4570-8FA8-F25D23D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B9A-9A52-4823-BDCC-3B120FC2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6E1-E2D6-458D-8CC2-8BA7F2B5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D59-7834-4FC7-8090-40440AE9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F6A2-0441-4703-9EBC-38CE5109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3FC-E9F2-4D0C-9700-41B8067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2E1-4B09-4FC0-9FD8-1CD7F716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EDF1-CC43-4A50-B436-3B019D6A3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nosaur was our new student to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his adventures in school as a new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include at least 5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4740" r="0" b="0"/>
          <a:stretch/>
        </p:blipFill>
        <p:spPr>
          <a:xfrm>
            <a:off x="4876920" y="1676520"/>
            <a:ext cx="36986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08:37Z</dcterms:created>
  <dc:creator>fcps</dc:creator>
  <dc:description/>
  <dc:language>en-US</dc:language>
  <cp:lastModifiedBy>fcps</cp:lastModifiedBy>
  <dcterms:modified xsi:type="dcterms:W3CDTF">2007-09-05T14:08:52Z</dcterms:modified>
  <cp:revision>1</cp:revision>
  <dc:subject/>
  <dc:title>Writing Prompt</dc:title>
</cp:coreProperties>
</file>